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01A-7455-41F9-B043-A7F1B2848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D785-341C-4C98-9B56-43AE88E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E0F7-88AE-4378-AE16-0496B08E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D17-5569-4798-A832-8502CC4E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9C78-D4D4-486E-A7A0-458648D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11B5-BDEA-404A-AA8D-679C0A3E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33FC-9A56-45DE-9E95-305671213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CBD-FD94-4E2D-B5BA-0DE85944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96D-B357-4EFF-93BC-FA5F74CE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E11-DEB5-4D27-A00F-552D7F82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E89B-9A9D-4F63-B98C-5FCD84D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9CC-0608-4E87-9B0C-5EC73D9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D68A-2EDC-4FE2-9F1A-26D89E476C3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Goite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5886360" y="765000"/>
            <a:ext cx="2629080" cy="6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c. Nodular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ymmetrical enlar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ariable: firm areas and soft cystic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nod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ultiple nodules, some formed of hyperplastic acini and others show acini filled with co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nodules are surrounded by fibrous t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omplications of simple goi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. Pressure effects: on esophagus, trachea, and recurrent laryngeal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2. Secondary hyperthyroidism due to Hyperfunctioning nodules (toxic nodular goiter). No exophthal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3. Malignancy in 2% of cases: follicular carcin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840" y="2571480"/>
            <a:ext cx="2714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Users\admin\Desktop\goiter.jpg"/>
          <p:cNvPicPr/>
          <p:nvPr/>
        </p:nvPicPr>
        <p:blipFill>
          <a:blip r:embed="rId1"/>
          <a:stretch/>
        </p:blipFill>
        <p:spPr>
          <a:xfrm>
            <a:off x="3857760" y="714240"/>
            <a:ext cx="450036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840" y="2571480"/>
            <a:ext cx="354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admin\Desktop\untitled.bmp"/>
          <p:cNvPicPr/>
          <p:nvPr/>
        </p:nvPicPr>
        <p:blipFill>
          <a:blip r:embed="rId1"/>
          <a:stretch/>
        </p:blipFill>
        <p:spPr>
          <a:xfrm>
            <a:off x="4000680" y="571680"/>
            <a:ext cx="4265280" cy="56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2428560"/>
            <a:ext cx="318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admin\Desktop\230px-Thyroid,_Diffuse_Hyperplasia.jpg"/>
          <p:cNvPicPr/>
          <p:nvPr/>
        </p:nvPicPr>
        <p:blipFill>
          <a:blip r:embed="rId1"/>
          <a:stretch/>
        </p:blipFill>
        <p:spPr>
          <a:xfrm>
            <a:off x="4429080" y="285840"/>
            <a:ext cx="41436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Two types;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Primary toxic goiter (exophthalmoic goiter or grave’s dise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Secondary toxic goiter: toxic nodular goiter or toxic ad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1844280"/>
            <a:ext cx="8569080" cy="24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PRIMARY TOXIC GOITER EXOPHTHALMIC GOITER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(GRAVE’S DISEAS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981000"/>
            <a:ext cx="83628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rgan specific autoimmune disease due to auto-antibodies (LATS; long acting thyroid stimulating) stimulating TSH receptors leads to diffuse hyperplasia and hyperfunctioning acini with excess thyroid hormone secr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logica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1. Thyro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N/E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ymmetrically  enlarged, firm, with dark red “vascular” cut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M/P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hyperplastic acini lined by columnar cells and filled with faintly stained colloid with peripheral scalloping. The stroma is highly vascular and shows lymphocytic infil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Definition: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Non-inflammatory, non-neoplastic enlargement of the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lass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Simple (non-toxic) go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oxic go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ves’ disease :Diffusely enlarged gland , Can weigh up to 200 g ,Richly vascula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" descr="http://radiology.uchc.edu/eatlas/images/Endo/6124b.gif"/>
          <p:cNvPicPr/>
          <p:nvPr/>
        </p:nvPicPr>
        <p:blipFill>
          <a:blip r:embed="rId1"/>
          <a:stretch/>
        </p:blipFill>
        <p:spPr>
          <a:xfrm>
            <a:off x="971640" y="1773360"/>
            <a:ext cx="7777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40872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c goiter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loping of colloid inside thyroid follicl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ized follicles , lymphocytic infiltration,hypervascular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7056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5713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2. Exophthalmos:</a:t>
            </a:r>
            <a:r>
              <a:rPr b="1" lang="en-US" sz="3200" spc="-1" strike="noStrike">
                <a:solidFill>
                  <a:srgbClr val="262673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rward protrusion of the eye globe due to edema and degeneration of the retro-orbital muscles “special auto-antibodies react with them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3. Diffuse lymphoid hyperplasi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 thymus, tonsil, spleen, gu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4. Left ventricular hypertrophy “thyrotoxic cardiomyopath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5. Pre-tibial myxed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62673"/>
                </a:solidFill>
                <a:uFillTx/>
                <a:latin typeface="Calibri"/>
                <a:ea typeface="Calibri"/>
              </a:rPr>
              <a:t>6. Increased basal metaboli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26267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os associating Graves’ dise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345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ophthalmos associating 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1374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24919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SECONDARY TOXIC GOI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a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A. Toxic nodular goite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ng simple nodular go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ffuse, nodular enlargement of the thyroid. Some nodules show hyperfunctioning acini. Other acini are ina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B. Toxic adeno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ng thyroid aden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Hyperfunctioning neoplastic acini are like those of grave’s disease. The remaining thyroid tissue is inactive. Thyroid hormone secretion is autono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  <a:ea typeface="Calibri"/>
              </a:rPr>
              <a:t>THYROIDIT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6840" y="620640"/>
            <a:ext cx="84358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nflammation of the thyro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Typ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. Hashimoto’s thyroidit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2. Subacute granulomatous thyroiditis (DeQuervain thyroidit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3. Reidel’s (fibrous) thyroid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SIMPLE (NON-TOXIC) GOI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1341000"/>
            <a:ext cx="8572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largement of the thyroid without toxic manife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a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1. Iodine de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. Absolute deficienc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 areas far from the s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. Relative deficienc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ue to increased demand for iodine at pregnancy, puberty and la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2. Dyshormonogenesi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hereditary 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eficiency  of enzymes necessary for thyroxin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75d1"/>
                </a:solidFill>
                <a:latin typeface="Calibri"/>
                <a:ea typeface="Calibri"/>
              </a:rPr>
              <a:t>3. Goitrogen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ll-known goitrogens as cabbage, cauliflower   which contain thiocyanate  which inhibits iodide transport within the thyr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HASHIMOTO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ccurs in middle &amp; old 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on in females more than males (20: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use painless thyroid enlar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hypo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r>
              <a:rPr b="0" i="1" lang="en-US" sz="32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utoimmune disease in which the immune system reacts against a variety of thyroid anti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ly enlarged thyroid 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rm inconsisten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act, non-adherent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pale, homogenous and sometimes nod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2171880" y="1852560"/>
            <a:ext cx="48006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8000" y="404280"/>
            <a:ext cx="8434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nse inflammatory infiltrate formed of lymphocytes, plasma cells and macrophages, with sometimes lymphoid follicle 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me acini are atrophied and others show regenerative changes (lined by large cubical cells with deeply esinophilic granular cytoplasm termed (Hurthle cells). This is termed Hurthle cell meta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ly, fibr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shimoto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496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imoto thyroiditis; Hurthle cell meta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36000" cy="54673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himoto thyroiditis; Hurthle cell meta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Complic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othyroid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velopment of other autoimmune dis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alignant transformation (lymphom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Calibri"/>
              </a:rPr>
              <a:t>SUBACUTE GRANULOMATOUS THYROID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ccurs between 30-50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re common in females than males (5:1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use painful thyroid enlarg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transient hyperthyroid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ociated with viral inf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nilateral or bilateral enlar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act caps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lightly adh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shows scattered firm yellowish white are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Pathogenes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341360"/>
            <a:ext cx="84358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d2d8a"/>
                </a:solidFill>
                <a:uFillTx/>
                <a:latin typeface="Calibri"/>
                <a:ea typeface="Calibri"/>
              </a:rPr>
              <a:t>a. Parenchymatous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odine deficiency → decreased thyroid hormone synthesis → increases TSH secretion → thyroid glands hyperpl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acini are increased in number and lined by tall columnar cells and contain little coll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f iodine deficiency is corrected after a short time, the acini return to the normal s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3640" y="475920"/>
            <a:ext cx="85690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utrophilic infiltration with variable destruction of the thyroid foll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ols of colloid surrounded by multinucleate giant cells, aggregations of lymphocytes, histiocytes and plasma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inally, fibrosis, chronic inflammatory cells replace the damaged f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nulomatous thyroidi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54064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alibri"/>
                <a:ea typeface="Calibri"/>
              </a:rPr>
              <a:t>REIDEL’S THYROID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1341000"/>
            <a:ext cx="864216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Rare, of unknown cause. Affect both sexes eq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 gland is hard in consistency and adherent to the surrounding structures (simulating malignanc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nse fibrous tissue replacing the thyroid tissue and penetrating the capsule to the surrounding neck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76280"/>
            <a:ext cx="8362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Calibri"/>
                <a:ea typeface="Calibri"/>
              </a:rPr>
              <a:t>b. Colloid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en iodine deficiency is corrected after a longer time → the acini are distended with colloid and lined by fla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Calibri"/>
                <a:ea typeface="Calibri"/>
              </a:rPr>
              <a:t>c. Nodular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peated cycles of iodine deficiency &amp; correction →nodular goiter in which the gland shows multiple nodules of parenchymatous goiter, colloid goiter and areas of fibr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orphological featur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a. Parenchymatous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 enlarg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irm in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grayish p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erplastic acini lined by tall columnar cells and filled with scanty coll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b. Colloid goi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Gross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metrical enlarg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ft in consist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ut surface is grayish brown in color and may shows cystic spaces filled with glistening colloid “honey comb appearance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  <a:ea typeface="Calibri"/>
              </a:rPr>
              <a:t>* Microscopic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acini are distended with colloid and lined by fla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stroma is scan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8:14:09Z</dcterms:created>
  <dc:creator>Owner</dc:creator>
  <dc:description/>
  <dc:language>en-US</dc:language>
  <cp:lastModifiedBy>Abdulaty Shawky</cp:lastModifiedBy>
  <dcterms:modified xsi:type="dcterms:W3CDTF">2013-09-12T08:53:06Z</dcterms:modified>
  <cp:revision>150</cp:revision>
  <dc:subject/>
  <dc:title>GOI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00000000000010250500207f7000400038000</vt:lpwstr>
  </property>
</Properties>
</file>